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AFBC-3FF7-4771-80A6-99322C6822C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DEB0-47F8-4B20-A4D1-8E783C941A7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EC9-1E36-4B3B-AEE9-D542BDF8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EA3-E69D-4C54-A920-42D261C7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9A2-4E37-4B55-83C2-DFE0CC72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8DF-FC5D-4AE4-9B42-ABFE72F2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5976-354C-4C9D-8AC4-F5591F68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1B50-D38F-46AC-8FD2-08E805CC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B954-D3F5-4182-9A00-C17BAEE9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9C9A-20B3-4DF2-B92D-CC847F47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2151-764E-4A38-8D91-0B5393F0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C250-27FA-4ED3-96D6-551BED70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1A3A-109B-4E91-81B2-0B9F0E6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72E-610D-406C-9F3E-00E263C5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DFF8-CF9F-4E8F-AB17-605DE4D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F87-D329-472C-857F-6048C6E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5054-FCB3-4245-AB02-4DCF105E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BC5E-99CD-463C-92DB-48867215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AA66-0FE4-4AC3-9EC8-3C2FAB16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90C8-7EB3-450A-970A-56F8008A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30DF-9993-4964-AC1D-EFA97BAB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1D321-EA99-4255-8E2F-706F8B35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7698-C434-422F-8BEF-AF38CE96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2CE9-37D1-413C-B454-95CEC1D4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1AA-EF39-46AF-83B3-CE5C55A8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2B5A-B08F-4E46-A252-E916CE0E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86FF5-1A70-40E2-AE8C-0923D41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01C6-391C-4792-9FD5-655B4C5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C851-30D1-4AF6-AA6E-C561884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0683-3837-42EF-BD0D-917DB5E7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4730-B813-4163-9E71-F2E1910E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2FE7-3AD0-4952-8166-B74FB22A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2A4E-2198-4FF1-ACB2-2DE4824D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4CC7-5EB6-4BAD-A90B-972AB0BE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551FE-4773-482A-AE4C-3E1D190C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12D-BF2A-4624-82CB-2A761593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DA3BA-19DC-431A-BBC8-BCF68E09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E2C8-3C10-4E6D-9AB7-608D7801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A7FF-24DE-4F39-A7F4-9E868658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448B-AB98-4D17-A022-523D5B5C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320B-C48D-4147-B42D-4E1BD701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5238-05A3-4551-A938-34E2B73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D3B8-C2BD-4D73-AA69-81E9BEC2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193E-ECA9-48A8-9603-302CA37D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4C20-B6D5-48E0-8ADC-FB0609DE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91FC8-AC7D-4A48-A819-564141FD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7CF-DF11-42E1-A9FE-1C79F3D1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EF07-076B-4F16-ABE2-31D72562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4933-B956-40A8-AB36-EE17D893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E7FAE-68E5-4EA6-8EA8-876629B9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7AD5A-3564-45DB-9C5D-3A0A1C04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F7D01-1591-474F-85F5-A9385E71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28F28-982E-4AA4-902E-1B67F325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4221B-5AE7-4324-88A7-3146626A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7328-FFA5-4ED8-BD52-FD92B13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F3337-A33D-4BB0-ACF8-6EE001D2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D7109-B7CE-40BC-999C-5C7298E6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9BA-BF6C-4751-8706-314C4C5B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25842-2ABE-40D2-92D3-5257C935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744C2-FC50-4FE2-ABF1-82BFD2F2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16A27-37DC-4E7C-A1C6-B0D09F62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C10F0-350A-40D3-BD62-CE0375FD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A394D-DB5E-4524-849F-1C3DC043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D4E0-DAEA-4DAE-BF7F-B3C27659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5EDEB-9E97-4D0D-A643-6FAA9CB8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0CF1-E775-4D29-B135-A6E6A53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6B050-11DA-4E9C-B5B7-5136272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07ABD-8F98-40B6-B427-D22957B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DAD-4F15-4E6D-9468-6206ACF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9A0F-8650-47F9-ADAA-7558B969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CAEE-E823-46B9-BEB4-06D3029A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8666E-3DAE-4E9B-92AF-288D0BCA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35956-80A1-4B5F-AC62-63A2C015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EB77F-7F89-412D-8926-2F1E55D3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0D5F9-A794-40FC-B00E-DDED771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401D7-C4F1-4ABE-8962-21BE0C8D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84C38-6A54-4BC3-B627-103A09EB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6FB79-83CF-492F-87E6-4F886F43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F2530-7759-49DA-8A31-3B9B2D96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CFE-B049-490D-8283-25271F26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A8CFD-C4DE-447C-9C67-04489B96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0EE6D-E406-4F56-9EE3-22D23AF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4246-3E8F-4611-B639-D0DF40C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B987B-4210-4B49-87F7-1F715764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1C86A-D5C3-466A-9668-DF681529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2AD10-79F2-44EF-8322-12FC7F9E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C59A0-7E34-40DD-A938-1DEEC243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990EC-BF45-4167-990A-A74EB65B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0575F-9609-476F-A87B-C973BCF0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3DA79-063D-4BF3-9358-E39D9276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71D-5984-4F46-9D58-C52F277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1556E-7989-4A16-8CEB-5293390C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538D6-5FFA-45A3-B9D1-68CDACF7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2B900-54C4-49B3-9E94-985EC49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14E81-5713-4E42-BD7E-C9BBD64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F611-111D-4BD1-8CF2-0A11B8A8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E0384-7CB5-47CC-AA25-07E305AF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589E-8C0F-4290-A6CB-9DABF5DB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4CB4-9161-4AAF-BAEC-00AC29F2C5E8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C0F2-A71F-439E-8F23-CC9179D44F2F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F9D-B314-4AFE-BC57-582C87086E8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B47A-D800-4993-AEB8-1F81E532CA80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AF9B-4770-4225-8141-E64A474CFAA0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F25B-ACCC-462A-8988-3A6A2308A4D1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317-87F5-41C2-9185-BD417A1F62D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16CD-415B-43DA-B2C5-9195EB6B7AC8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464646"/>
                </a:solidFill>
                <a:latin typeface="Lucida Sans Unicode"/>
              </a:rPr>
              <a:t>Standing on the shoulders of gi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Lets go to Tuva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Located in the south pacif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 population of less than 13 000 peop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re is virtually no industry or inco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How do they surviv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http://t3.gstatic.com/images?q=tbn:ATZXbW4Ju2mCOM:http://www.gilat.com/data/uploads/elements/sat_high.png"/>
          <p:cNvPicPr/>
          <p:nvPr/>
        </p:nvPicPr>
        <p:blipFill>
          <a:blip r:embed="rId2"/>
          <a:stretch/>
        </p:blipFill>
        <p:spPr>
          <a:xfrm>
            <a:off x="4643280" y="392904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 satellite that orbits the earth in 24 hours, when over the equator, will always be over the same 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s the period of the orbit is dependent on the speed, and speed the depends on the radius, all geosynchronous orbits are in the same place above the earth in a band around the equ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labspace.open.ac.uk/file.php/2026/T175_8_001i.jpg"/>
          <p:cNvPicPr/>
          <p:nvPr/>
        </p:nvPicPr>
        <p:blipFill>
          <a:blip r:embed="rId2"/>
          <a:stretch/>
        </p:blipFill>
        <p:spPr>
          <a:xfrm>
            <a:off x="3357720" y="4643280"/>
            <a:ext cx="30002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Being on the equator it has jurisdiction over the space above it, which includes space for communication satell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hat, and any .tv web address is registered in Tuva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Your turn. Try the problems in 8C in your book, and worksheet #4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ycho Brah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1546 –1601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His major contributions made were measurements of stars and plan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What set his work apart was the precision of his measurements, and the shear quantity of his observa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He also had a great assis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nd he got his nose cut off in a figh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upload.wikimedia.org/wikipedia/commons/thumb/2/2b/Tycho_Brahe.JPG/250px-Tycho_Brahe.JPG"/>
          <p:cNvPicPr/>
          <p:nvPr/>
        </p:nvPicPr>
        <p:blipFill>
          <a:blip r:embed="rId2"/>
          <a:stretch/>
        </p:blipFill>
        <p:spPr>
          <a:xfrm>
            <a:off x="6072120" y="1857240"/>
            <a:ext cx="2381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Johannes Kepl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1571-163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Kepler was Brahe’s instrument maker and assis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Major work was in orbiting bod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Lucida Sans Unicode"/>
              </a:rPr>
              <a:t>Orbits are elliptic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Lucida Sans Unicode"/>
              </a:rPr>
              <a:t>Equal areas in equal tim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Lucida Sans Unicode"/>
              </a:rPr>
              <a:t>Period related to dista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lso a great supporter of Galile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He came to within a paragraph of explaining the law of grav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6429240" y="2714760"/>
            <a:ext cx="1162080" cy="167616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Newton used Kepler’s observations and methods but used his recently invented calculus to identify a couple relationships for forces of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orce </a:t>
            </a:r>
            <a:r>
              <a:rPr b="0" lang="en-NZ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mass of the two bodies (M and m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orce </a:t>
            </a:r>
            <a:r>
              <a:rPr b="0" lang="en-NZ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inverse of distance squa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Mm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1/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Combined these equations give: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In order to make this a true equation a constant of </a:t>
            </a:r>
            <a:r>
              <a:rPr b="0" lang="en-NZ" sz="2700" spc="-1" strike="noStrike">
                <a:solidFill>
                  <a:srgbClr val="ff0000"/>
                </a:solidFill>
                <a:latin typeface="Lucida Sans Unicode"/>
              </a:rPr>
              <a:t>6.67*10</a:t>
            </a:r>
            <a:r>
              <a:rPr b="0" lang="en-NZ" sz="2700" spc="-1" strike="noStrike" baseline="30000">
                <a:solidFill>
                  <a:srgbClr val="ff0000"/>
                </a:solidFill>
                <a:latin typeface="Lucida Sans Unicode"/>
              </a:rPr>
              <a:t>-11</a:t>
            </a:r>
            <a:r>
              <a:rPr b="0" lang="en-NZ" sz="2700" spc="-1" strike="noStrike">
                <a:solidFill>
                  <a:srgbClr val="ff0000"/>
                </a:solidFill>
                <a:latin typeface="Lucida Sans Unicode"/>
              </a:rPr>
              <a:t>Nm</a:t>
            </a:r>
            <a:r>
              <a:rPr b="0" lang="en-NZ" sz="2700" spc="-1" strike="noStrike" baseline="30000">
                <a:solidFill>
                  <a:srgbClr val="ff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ff0000"/>
                </a:solidFill>
                <a:latin typeface="Lucida Sans Unicode"/>
              </a:rPr>
              <a:t>Kg</a:t>
            </a:r>
            <a:r>
              <a:rPr b="0" lang="en-NZ" sz="2700" spc="-1" strike="noStrike" baseline="30000">
                <a:solidFill>
                  <a:srgbClr val="ff0000"/>
                </a:solidFill>
                <a:latin typeface="Lucida Sans Unicode"/>
              </a:rPr>
              <a:t>-2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is used and given the symbol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"/>
          <p:cNvSpPr/>
          <p:nvPr/>
        </p:nvSpPr>
        <p:spPr>
          <a:xfrm>
            <a:off x="3143160" y="4643280"/>
            <a:ext cx="2000520" cy="1071720"/>
          </a:xfrm>
          <a:prstGeom prst="rect">
            <a:avLst/>
          </a:prstGeom>
          <a:noFill/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Jimmy who is 85 kg and Sally who is 72 kg are 9.3 m apart on a dance floor and there is a force of attraction between them. If this force is only due to gravity what is it’s magnitu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3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GMm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M=85Kg, m=72Kg, r=9.3m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3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3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(6.67*10</a:t>
            </a:r>
            <a:r>
              <a:rPr b="0" lang="en-NZ" sz="23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-11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Nm</a:t>
            </a:r>
            <a:r>
              <a:rPr b="0" lang="en-NZ" sz="23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Kg</a:t>
            </a:r>
            <a:r>
              <a:rPr b="0" lang="en-NZ" sz="23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-2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)(85Kg)(72K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(9.3m)</a:t>
            </a:r>
            <a:r>
              <a:rPr b="0" lang="en-NZ" sz="23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3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= 4.71*10</a:t>
            </a:r>
            <a:r>
              <a:rPr b="0" lang="en-NZ" sz="2300" spc="-1" strike="noStrike" baseline="30000">
                <a:solidFill>
                  <a:srgbClr val="000000"/>
                </a:solidFill>
                <a:latin typeface="Lucida Sans Unicode"/>
              </a:rPr>
              <a:t>-9 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*Very important – Distances are measured 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from the centre of an object*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n orbiting object has two forces acting on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1) The force of gravity as both objects have some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2) As orbiting objects are following circles there is centripetal accel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m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and   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*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 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6840" y="1480680"/>
            <a:ext cx="85438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m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and   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*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 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m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*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 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ome terms are repeated here, so by cancell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= v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his implies that the speed of an orbiting satellite is dependent only on its d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7981920" y="4714920"/>
            <a:ext cx="1162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Lets go to Tuva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Located in the south pacif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http://upload.wikimedia.org/wikipedia/commons/e/ed/LocationTuvalu.png"/>
          <p:cNvPicPr/>
          <p:nvPr/>
        </p:nvPicPr>
        <p:blipFill>
          <a:blip r:embed="rId2"/>
          <a:stretch/>
        </p:blipFill>
        <p:spPr>
          <a:xfrm>
            <a:off x="3429000" y="2428920"/>
            <a:ext cx="4861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0:18:24Z</dcterms:created>
  <dc:creator>rv</dc:creator>
  <dc:description/>
  <dc:language>en-US</dc:language>
  <cp:lastModifiedBy>rv</cp:lastModifiedBy>
  <dcterms:modified xsi:type="dcterms:W3CDTF">2010-04-21T23:18:53Z</dcterms:modified>
  <cp:revision>17</cp:revision>
  <dc:subject/>
  <dc:title>Orbital Motion</dc:title>
</cp:coreProperties>
</file>